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389-43C8-4D36-BC11-EEA325C4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F2A-81A3-4F9E-A6BC-AB580200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EB3-1D6E-4895-AC33-7DDAF921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E75-E88D-4B18-A7E9-0DF19380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CD0-98C3-4920-9DCB-5AB13FF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CFC-9938-4E69-99BC-BC8AF3A8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2DA-587A-4D18-91DF-0EC4F6D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486-45F6-4D2B-89F8-E67BBB0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232-0CCC-4090-8A06-7699C56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BDA-41CF-4BE0-B152-CDDB482B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C70-2559-40F7-A34A-5725F31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660-383F-44CB-B269-85F9378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A557-76A6-40AC-A8ED-2426FD95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476280"/>
            <a:ext cx="65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Laser Printer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809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840" y="3967560"/>
            <a:ext cx="6018120" cy="22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3480" bIns="33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gneto"/>
              </a:rPr>
              <a:t>Duty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gneto"/>
              </a:rPr>
              <a:t>Up to 25,000 pages/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517920" cy="351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83664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Dell 1720dn Network Mono Laser Printer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280" y="5156280"/>
            <a:ext cx="8137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0 x 1200 dpi (2400 dpi image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9280" y="620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Resolution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9280" y="1206360"/>
            <a:ext cx="351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661000"/>
            <a:ext cx="820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cents per page which is a fair d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2920" y="333360"/>
            <a:ext cx="66960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ost per page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41800" cy="324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2886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581000"/>
            <a:ext cx="8075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, USB 2.0, 10/100BaseT Ethernet (Cables not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640" y="333360"/>
            <a:ext cx="60897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Network Cables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209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1:59:41Z</dcterms:created>
  <dc:creator>hed0001</dc:creator>
  <dc:description/>
  <dc:language>en-US</dc:language>
  <cp:lastModifiedBy>hed0001</cp:lastModifiedBy>
  <dcterms:modified xsi:type="dcterms:W3CDTF">2008-09-12T02:20:14Z</dcterms:modified>
  <cp:revision>2</cp:revision>
  <dc:subject/>
  <dc:title>Slide 1</dc:title>
</cp:coreProperties>
</file>